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3AE-B610-4974-A1A0-23D17A72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2B9-9A78-4161-B2BA-5AAE762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929-5850-45E0-880E-3C814BB2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470-4476-4A1B-8BD1-3B6FF1F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2C0-4C89-4178-B400-40AB9B69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7DB-C1F7-4E72-9F64-928EF99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1FA-D8D6-48E6-B09C-CEAF265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56B-465B-4F8C-BDD9-1747F166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DA8-757E-4BF8-8600-82D2D71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B73-8D1C-4F36-AACF-006D5E3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E64-021F-4A8F-8C86-F827658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A66-078D-46FB-B629-6953547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52E-E9A2-469F-A10B-05AA2AA8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ja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esar Augustu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1881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1576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Emperors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6880" y="1752480"/>
            <a:ext cx="3505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nk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3:51Z</dcterms:created>
  <dc:creator>sramsey</dc:creator>
  <dc:description/>
  <dc:language>en-US</dc:language>
  <cp:lastModifiedBy>sramsey</cp:lastModifiedBy>
  <dcterms:modified xsi:type="dcterms:W3CDTF">2007-03-28T21:42:46Z</dcterms:modified>
  <cp:revision>3</cp:revision>
  <dc:subject/>
  <dc:title>Slide 1</dc:title>
</cp:coreProperties>
</file>